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wmf" ContentType="image/x-wmf"/>
  <Override PartName="/ppt/media/image20.png" ContentType="image/png"/>
  <Override PartName="/ppt/media/image18.jpeg" ContentType="image/jpeg"/>
  <Override PartName="/ppt/media/image16.png" ContentType="image/pn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9942513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943200" cy="68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563400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3268800" y="510840"/>
            <a:ext cx="3404880" cy="25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5294-7C7F-4553-9A48-27D01D6F54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2F59-3CDE-4F5E-9139-7ACACD0CE0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 séparation de 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lise et de 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at en 19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0D0D-1604-483B-8290-BC472A8D5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i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de mon père – de Corneille [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Le Ci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8654-78B7-4842-8072-BBEEE986E3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f. le rat de la ville et le rat des ch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34000" y="6469200"/>
            <a:ext cx="4308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1FA-E188-4D83-B1F0-4FB88A266A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4880" cy="2554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325520" y="3234960"/>
            <a:ext cx="72914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el et Paul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cteur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de leur mère ! (e.g. p. 139 le fusil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7C1-F792-49CF-A2EF-AA65A699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B5D-55C6-4816-87B6-5E497DEE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E06-FB1B-4B4A-B8CC-0F58C906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F6E-E8D4-4AFD-B1B9-B8BEB3D2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67AC-0A0D-4E25-AFDC-40D6EEC8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B00-1D85-4936-89CE-11570CC1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C176-6CAB-4BC3-94D7-246120F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C3F1-8BC8-446E-800C-057BAE0A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6B5D-9764-4C43-BC69-9822AE09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91E2-A871-4D9B-827D-FFA62ED1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3C5-7077-496C-8E76-16D42EA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0B1-4F5F-4D99-A744-A106AD6B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CCB1-5FE0-4A5D-BC71-7B133CD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0DC-1917-42C5-A38D-6D5CA6FC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670-8526-499A-B7FE-2EC6CF5A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4F7A-1895-45E2-9749-E20466A4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AC1D-7D01-48A4-945C-BC2A4E49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DE6-E102-49D6-8FDE-087EFC46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054-8884-4ED8-9ABC-D360721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A39-8D69-4079-80AE-158C451F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6F5-9700-4AEC-BB9A-7D61A374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18C-49C3-4760-8AC9-4319810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A7F-640F-435B-9D4A-DD96FB8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DA9-FFC8-4E6D-804E-BE5B7B5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6D00-70CA-4155-BEB0-1F55A4833F78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84C8-F36D-4AD1-B579-7637754AF145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Gloire de mon père</a:t>
            </a:r>
            <a:br>
              <a:rPr sz="4400"/>
            </a:br>
            <a:r>
              <a:rPr b="0" lang="en-GB" sz="3200" spc="-1" strike="noStrike">
                <a:solidFill>
                  <a:srgbClr val="996633"/>
                </a:solidFill>
                <a:latin typeface="Times New Roman"/>
              </a:rPr>
              <a:t>Marcel Pagnol (1957)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Souvenirs d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nfanc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Tom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Edu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le de 1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[…] 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mirais la toute-puissance paternell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maitresse.jpg (24218 octets)"/>
          <p:cNvPicPr/>
          <p:nvPr/>
        </p:nvPicPr>
        <p:blipFill>
          <a:blip r:embed="rId1"/>
          <a:stretch/>
        </p:blipFill>
        <p:spPr>
          <a:xfrm>
            <a:off x="5425920" y="1981080"/>
            <a:ext cx="362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Edu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947960" y="1981080"/>
          <a:ext cx="2800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7960" y="1981080"/>
                    <a:ext cx="2800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Souverain Bie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lon le grand-père de Mar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science (p. 101) –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i a pourtant ses limites…(p. 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urquoi ce respect de 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ducation de la part du grand-père, du père, et de Marce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e Pont du Gar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8" name="ClipArt Placeholder 4" descr=""/>
          <p:cNvPicPr/>
          <p:nvPr/>
        </p:nvPicPr>
        <p:blipFill>
          <a:blip r:embed="rId1"/>
          <a:srcRect l="4049" t="0" r="4049" b="0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. 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ration de son grand-p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religion – le curé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146320" y="1981080"/>
          <a:ext cx="2403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1981080"/>
                    <a:ext cx="2403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nemi sournoi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ennemi no. 1 du père, instituteur de 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le Républicaine et laïq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so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icléricalism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loi de la séparation de l’Eglise et l’Etat – 1905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p. 15-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. 2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ïcité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ClipArt Placeholder 4" descr=""/>
          <p:cNvPicPr/>
          <p:nvPr/>
        </p:nvPicPr>
        <p:blipFill>
          <a:blip r:embed="rId1"/>
          <a:srcRect l="-113972" t="0" r="-113972" b="0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…] une trinité atroce, l’Eglise, l’Alcool, et la Royauté.’ (p. 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chasse aux bartavel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… et Jules, son beau-frère, le grand chass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cel, le petit chass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BD06152_"/>
          <p:cNvPicPr/>
          <p:nvPr/>
        </p:nvPicPr>
        <p:blipFill>
          <a:blip r:embed="rId1"/>
          <a:stretch/>
        </p:blipFill>
        <p:spPr>
          <a:xfrm>
            <a:off x="5713560" y="1981080"/>
            <a:ext cx="312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chass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itié – avec Lili des Be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ans la version cinématographique – 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e Château de mè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film2.jpg (9802 octets)"/>
          <p:cNvPicPr/>
          <p:nvPr/>
        </p:nvPicPr>
        <p:blipFill>
          <a:blip r:embed="rId1"/>
          <a:stretch/>
        </p:blipFill>
        <p:spPr>
          <a:xfrm>
            <a:off x="1479600" y="2952720"/>
            <a:ext cx="37368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chasse dans la montagn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…] le sommet du Taoumé, au-dessus des plateaux encore sombres, était bleu et rose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. 1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…] dans les ravins du Taoumé, il y a le Roi des Gibiers!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. 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3824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3824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le_taoumé.jpg (19319 octets)"/>
          <p:cNvPicPr/>
          <p:nvPr/>
        </p:nvPicPr>
        <p:blipFill>
          <a:blip r:embed="rId1"/>
          <a:stretch/>
        </p:blipFill>
        <p:spPr>
          <a:xfrm>
            <a:off x="5369040" y="3073320"/>
            <a:ext cx="37368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n autre type d’édu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omphe/gloire du p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ité- les deux sens-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ut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Orgu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ClipArt Placeholder 4" descr=""/>
          <p:cNvPicPr/>
          <p:nvPr/>
        </p:nvPicPr>
        <p:blipFill>
          <a:blip r:embed="rId1"/>
          <a:srcRect l="0" t="13299" r="0" b="13299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ortie de l’enfanc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’est-ce que Marcel a appris – de la vie – des adultes – de lui-mê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Cruauté / méchanceté – des enfants ainsi que des adultes – (Paul et 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ctes, pp. 78, 104-09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‘trahison’ / imperfection (des adultes – son père, pp. 123, 164, 1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 Gloire de mon pè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une petite chanson de piété filiale […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– 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…]un témoignage 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e époque disparue […]’(Avant-propos, p. 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…] une époque bénie, où les gens se rendaient servi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…]’ (p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e Pè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père de Marc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Pagnol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 cher surhomm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2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8"/>
          <p:cNvGrpSpPr/>
          <p:nvPr/>
        </p:nvGrpSpPr>
        <p:grpSpPr>
          <a:xfrm>
            <a:off x="1714680" y="6858000"/>
            <a:ext cx="7429320" cy="2209680"/>
            <a:chOff x="1714680" y="6858000"/>
            <a:chExt cx="7429320" cy="2209680"/>
          </a:xfrm>
        </p:grpSpPr>
        <p:sp>
          <p:nvSpPr>
            <p:cNvPr id="123" name="Rectangle 5"/>
            <p:cNvSpPr/>
            <p:nvPr/>
          </p:nvSpPr>
          <p:spPr>
            <a:xfrm>
              <a:off x="1714680" y="685800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1714680" y="6858000"/>
              <a:ext cx="74293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Picture 9" descr="joseph"/>
          <p:cNvPicPr/>
          <p:nvPr/>
        </p:nvPicPr>
        <p:blipFill>
          <a:blip r:embed="rId1"/>
          <a:stretch/>
        </p:blipFill>
        <p:spPr>
          <a:xfrm>
            <a:off x="1995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nfant – garçon - homm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…] je devenais un petit homme’- expérience de la solitude, de l’aventure (p. 1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NTIMENTS, EMOT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iliation (souvent pour son père) – le contraire de la GLOIRE – Jules et Jose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p. 153, 17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te (Jules – p. 1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es, désespoirs – d’un enfant (Marcel et la chasse, p. 1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dence? – devant les ‘dangers’ de la chasse … et de la v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arcel Pagnol adult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ie, di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’avais surpris mon cher surhomme en flagrant délit d’humanité: j’ai senti que je l’en aimais davantage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. 2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nym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‘gloire de mon père’ = gloire du f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émici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. 26) – anecdo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YL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‘Il [mon père] rencontra […] qui s’appelait Augustine, et il la trouva si jolie qu’il l’épousa aussitôt.’ (pp. 21-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que / héroï-com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rfois – ‘le Tueur de Bartavelles’ (p. 2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ique/vocabulaire ric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p. 1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te [bathos]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. 18-19. Effet com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YLE 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(suite)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od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bolique – exagé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onomique – paronomasie (jeu de mo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oward, pp. 70-71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– personnification de la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FFETS COMIQU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QUES et VERBAUX-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congruï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oqu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Genre littéraire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man ?    (Caldicott, p. 1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biographi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[romancée]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? 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Il est bien difficile de parler de soi.’(Avant-propos, p.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fiction ? – ‘sottises’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vant-propos, p.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émoires /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venir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vant-propos, p.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Bibliographi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E.J. Caldicott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rcel Pagn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Boston, Twayne, 197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ymond Castans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rcel Pagnol m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racon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Editions de Provence/de la Table ronde, 197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vid Coward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gnol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 Château de ma mère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London, Grant &amp; Cutler, 199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mère - Augustin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âge 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gustine, 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tait le mien, parce que ma mère, 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tait moi, et je pensais, dans mon enfance, que nous étions nés le même jour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5878440" y="1981080"/>
          <a:ext cx="2716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8440" y="1981080"/>
                    <a:ext cx="271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ce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cel et la nature sauvage et ambivalent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. 157 – Paul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la montagne – le Garl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quoi cet amour de la nature chez Marce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film1.jpg (9004 octets)"/>
          <p:cNvPicPr/>
          <p:nvPr/>
        </p:nvPicPr>
        <p:blipFill>
          <a:blip r:embed="rId1"/>
          <a:stretch/>
        </p:blipFill>
        <p:spPr>
          <a:xfrm>
            <a:off x="5369040" y="2946240"/>
            <a:ext cx="3736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AMILLE  - Joseph le pè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s sont les rapports de Marcel avec son pè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était devenu magnifiq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1" descr="86"/>
          <p:cNvPicPr/>
          <p:nvPr/>
        </p:nvPicPr>
        <p:blipFill>
          <a:blip r:embed="rId1"/>
          <a:stretch/>
        </p:blipFill>
        <p:spPr>
          <a:xfrm>
            <a:off x="1763640" y="2060640"/>
            <a:ext cx="26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Mè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re Augusti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la mère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p. 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s sont les rapports de Marcel avec sa mère ?  Et de Pau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 naissance de la petite soeur (p. 4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5407200" y="3087720"/>
          <a:ext cx="3736800" cy="19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7200" y="3087720"/>
                    <a:ext cx="373680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 temps – les â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. 9, pp. 48-52 – ‘l’enfant de vieux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enfant Marcel et ses parents – ‘[…] je n’imaginais ni leur jeunesse ni leur enfance.’ (p. 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lipArt Placeholder 4" descr=""/>
          <p:cNvPicPr/>
          <p:nvPr/>
        </p:nvPicPr>
        <p:blipFill>
          <a:blip r:embed="rId1"/>
          <a:srcRect l="19884" t="0" r="19884" b="0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 langag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menso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’Oncle Jules, propriétaire du parc – p. 47; ‘mentir’ aux enfants, p. 161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hypocris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du père (pp. 212-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comique (physique, verbale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‘Lou Rousti’ (p. 12); la bonne au WC (p. 15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lipArt Placeholder 4" descr=""/>
          <p:cNvPicPr/>
          <p:nvPr/>
        </p:nvPicPr>
        <p:blipFill>
          <a:blip r:embed="rId1"/>
          <a:srcRect l="19761" t="0" r="19761" b="0"/>
          <a:stretch/>
        </p:blipFill>
        <p:spPr>
          <a:xfrm>
            <a:off x="536904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ducation de Marce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ux types-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ormelle – l’éc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nformelle – la 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lipArt Placeholder 4" descr=""/>
          <p:cNvPicPr/>
          <p:nvPr/>
        </p:nvPicPr>
        <p:blipFill>
          <a:blip r:embed="rId1"/>
          <a:srcRect l="8790" t="-39396" r="-33222" b="-43481"/>
          <a:stretch/>
        </p:blipFill>
        <p:spPr>
          <a:xfrm>
            <a:off x="5705640" y="1155600"/>
            <a:ext cx="3736800" cy="411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473800" y="4508640"/>
            <a:ext cx="31161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4:14:05Z</dcterms:created>
  <dc:creator>Peter Tame</dc:creator>
  <dc:description/>
  <dc:language>en-US</dc:language>
  <cp:lastModifiedBy>Louisa Gibson</cp:lastModifiedBy>
  <cp:lastPrinted>2017-03-08T10:50:44Z</cp:lastPrinted>
  <dcterms:modified xsi:type="dcterms:W3CDTF">2017-03-08T10:51:04Z</dcterms:modified>
  <cp:revision>102</cp:revision>
  <dc:subject/>
  <dc:title>Le Père</dc:title>
</cp:coreProperties>
</file>