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6.png" ContentType="image/png"/>
  <Override PartName="/ppt/media/image20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9942513" cy="6811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802-0AA8-4449-9994-FC5AEB79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D24-0A84-4826-9F49-4227E675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E05-B013-43E3-A8C6-9EE9B3B5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D93-A0D1-480A-96D7-329550E9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6D55-0AC2-46F8-B20C-214BDE7E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A8B5-841D-43E7-9D34-9957C95B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4B8D-4FAC-4503-8314-76DBC716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F964-642E-4DF1-A29F-0FD4338D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B068-03BB-4171-8F0C-16FFE20B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9FC0-B44D-4C77-8CA6-D539F86F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7F37-64D1-485E-9DF3-9C68DEDF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0AA-144C-40B7-BA5E-174E0C31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FC92-4548-46F8-8E01-325A5666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240C-5595-45A6-8E33-9CE27778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1275-D629-475D-8D7A-B1E663AE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7BD9-DA8D-43A8-90BB-AE55C5B8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36B8-B510-452E-B6AC-89458EBA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65D-996C-4D5D-9795-3DA4BFDF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339-D1CB-48AD-AE94-CA8C8A0A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CAA-D47C-45DD-B1D9-1938D273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8AE-F04B-4584-AAFC-8E210C65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FC99-A090-41ED-B244-D7D7D1B5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943-22AA-4B91-AFE1-B94105A9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C3F-F165-4420-8543-66D9865D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1028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1029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1030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33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34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2875-0322-402A-85BC-AD10FC09CA58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026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1027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28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029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030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031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032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33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34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035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036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03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038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039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040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81E4-A265-436F-8128-8C48AAB5E933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arcel-pagnol.com/le-monde-de-marcel-pagnol/articles.php3?session=KRLwWglu&amp;ItemID=143&amp;rayon_cat=Cartes.postales" TargetMode="External"/><Relationship Id="rId2" Type="http://schemas.openxmlformats.org/officeDocument/2006/relationships/hyperlink" Target="http://www.marcel-pagnol.com/le-monde-de-marcel-pagnol/articles.php3?session=KRLwWglu&amp;ItemID=143&amp;rayon_cat=Cartes.postales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arcel-pagnol.com/le-monde-de-marcel-pagnol/articles.php3?session=KRLwWglu&amp;ItemID=141&amp;rayon_cat=Cartes.postales" TargetMode="External"/><Relationship Id="rId2" Type="http://schemas.openxmlformats.org/officeDocument/2006/relationships/hyperlink" Target="http://www.marcel-pagnol.com/le-monde-de-marcel-pagnol/articles.php3?session=KRLwWglu&amp;ItemID=141&amp;rayon_cat=Cartes.postales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arcel-pagnol.com/le-monde-de-marcel-pagnol/articles.php3?session=KRLwWglu&amp;ItemID=45&amp;rayon_cat=Cartes.postales" TargetMode="External"/><Relationship Id="rId2" Type="http://schemas.openxmlformats.org/officeDocument/2006/relationships/hyperlink" Target="http://www.marcel-pagnol.com/le-monde-de-marcel-pagnol/articles.php3?session=KRLwWglu&amp;ItemID=45&amp;rayon_cat=Cartes.postales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arcel-pagnol.com/le-monde-de-marcel-pagnol/articles.php3?session=KRLwWglu&amp;ItemID=151&amp;rayon_cat=Cartes.postales" TargetMode="External"/><Relationship Id="rId2" Type="http://schemas.openxmlformats.org/officeDocument/2006/relationships/hyperlink" Target="http://www.marcel-pagnol.com/le-monde-de-marcel-pagnol/articles.php3?session=KRLwWglu&amp;ItemID=151&amp;rayon_cat=Cartes.postales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arcel-pagnol.com/le-monde-de-marcel-pagnol/articles.php3?session=KRLwWglu&amp;ItemID=160&amp;rayon_cat=Posters" TargetMode="External"/><Relationship Id="rId2" Type="http://schemas.openxmlformats.org/officeDocument/2006/relationships/hyperlink" Target="http://www.marcel-pagnol.com/le-monde-de-marcel-pagnol/articles.php3?session=KRLwWglu&amp;ItemID=160&amp;rayon_cat=Posters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arcel-pagnol.com/le-monde-de-marcel-pagnol/articles.php3?session=KRLwWglu&amp;ItemID=158&amp;rayon_cat=Posters" TargetMode="External"/><Relationship Id="rId2" Type="http://schemas.openxmlformats.org/officeDocument/2006/relationships/hyperlink" Target="http://www.marcel-pagnol.com/le-monde-de-marcel-pagnol/articles.php3?session=KRLwWglu&amp;ItemID=158&amp;rayon_cat=Posters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arcel-pagnol.com/fr/homme/amours.htm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90000"/>
                </a:solidFill>
                <a:latin typeface="Times New Roman"/>
              </a:rPr>
              <a:t>Marcel Pagnol</a:t>
            </a:r>
            <a:r>
              <a:rPr b="1" i="1" lang="en-GB" sz="54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5400"/>
            </a:br>
            <a:r>
              <a:rPr b="1" i="1" lang="en-GB" sz="5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895-19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Je suis né dans la ville d’Aubagne, sous le Garlaban couronné de chèvres, au temps des derniers chevriers…’ 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a Gloire de mon pèr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195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’école de 1900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…] j’admirais la toute-puissance paternelle.’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a Gloire de mon pè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p. 31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br>
              <a:rPr sz="24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‘le Souverain Bien’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lon le grand-père d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rcel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a Gloire de mon père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p. 14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maitresse.jpg (24218 octets)"/>
          <p:cNvPicPr/>
          <p:nvPr/>
        </p:nvPicPr>
        <p:blipFill>
          <a:blip r:embed="rId1"/>
          <a:stretch/>
        </p:blipFill>
        <p:spPr>
          <a:xfrm>
            <a:off x="1536840" y="1981080"/>
            <a:ext cx="362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e professeur Pagno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915 à Taras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923 – à Pa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fond_prov"/>
          <p:cNvPicPr/>
          <p:nvPr/>
        </p:nvPicPr>
        <p:blipFill>
          <a:blip r:embed="rId1"/>
          <a:stretch/>
        </p:blipFill>
        <p:spPr>
          <a:xfrm>
            <a:off x="1523880" y="2924280"/>
            <a:ext cx="762012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Topaze  </a:t>
            </a: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(1928)</a:t>
            </a: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e pièce de théâ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uis un film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ernandel joue Topaze i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0"/>
          <p:cNvGrpSpPr/>
          <p:nvPr/>
        </p:nvGrpSpPr>
        <p:grpSpPr>
          <a:xfrm>
            <a:off x="2819520" y="2592360"/>
            <a:ext cx="1066680" cy="2360160"/>
            <a:chOff x="2819520" y="2592360"/>
            <a:chExt cx="1066680" cy="2360160"/>
          </a:xfrm>
        </p:grpSpPr>
        <p:grpSp>
          <p:nvGrpSpPr>
            <p:cNvPr id="148" name="Group 8"/>
            <p:cNvGrpSpPr/>
            <p:nvPr/>
          </p:nvGrpSpPr>
          <p:grpSpPr>
            <a:xfrm>
              <a:off x="2822400" y="2617200"/>
              <a:ext cx="1060920" cy="2309760"/>
              <a:chOff x="2822400" y="2617200"/>
              <a:chExt cx="1060920" cy="2309760"/>
            </a:xfrm>
          </p:grpSpPr>
          <p:sp>
            <p:nvSpPr>
              <p:cNvPr id="149" name="Rectangle 5"/>
              <p:cNvSpPr/>
              <p:nvPr/>
            </p:nvSpPr>
            <p:spPr>
              <a:xfrm>
                <a:off x="2822400" y="2617200"/>
                <a:ext cx="1060920" cy="230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 u="sng">
                    <a:solidFill>
                      <a:srgbClr val="cc9900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GB" sz="10100" spc="-1" strike="noStrike">
                    <a:solidFill>
                      <a:srgbClr val="30278a"/>
                    </a:solidFill>
                    <a:latin typeface="Arial"/>
                    <a:ea typeface="Arial"/>
                  </a:rPr>
                  <a:t> </a:t>
                </a:r>
                <a:r>
                  <a:rPr b="0" lang="en-GB" sz="1100" spc="-1" strike="noStrike">
                    <a:solidFill>
                      <a:srgbClr val="30278a"/>
                    </a:solidFill>
                    <a:latin typeface="Arial"/>
                    <a:ea typeface="Arial"/>
                  </a:rPr>
                  <a:t>                             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7"/>
              <p:cNvSpPr/>
              <p:nvPr/>
            </p:nvSpPr>
            <p:spPr>
              <a:xfrm>
                <a:off x="2822400" y="2617200"/>
                <a:ext cx="1060920" cy="230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Rectangle 9"/>
            <p:cNvSpPr/>
            <p:nvPr/>
          </p:nvSpPr>
          <p:spPr>
            <a:xfrm>
              <a:off x="2819520" y="2592360"/>
              <a:ext cx="1066680" cy="2360160"/>
            </a:xfrm>
            <a:prstGeom prst="rect">
              <a:avLst/>
            </a:prstGeom>
            <a:noFill/>
            <a:ln w="34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Picture 11" descr="Cliquer pour en savoir plus !!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2362320"/>
            <a:ext cx="291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Marius </a:t>
            </a: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(1929)</a:t>
            </a: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 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e pièce de théâ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imu joue Cés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7010280" y="3200400"/>
            <a:ext cx="762120" cy="905040"/>
            <a:chOff x="7010280" y="3200400"/>
            <a:chExt cx="762120" cy="905040"/>
          </a:xfrm>
        </p:grpSpPr>
        <p:grpSp>
          <p:nvGrpSpPr>
            <p:cNvPr id="156" name="Group 8"/>
            <p:cNvGrpSpPr/>
            <p:nvPr/>
          </p:nvGrpSpPr>
          <p:grpSpPr>
            <a:xfrm>
              <a:off x="7012080" y="3218040"/>
              <a:ext cx="758160" cy="870120"/>
              <a:chOff x="7012080" y="3218040"/>
              <a:chExt cx="758160" cy="870120"/>
            </a:xfrm>
          </p:grpSpPr>
          <p:sp>
            <p:nvSpPr>
              <p:cNvPr id="157" name="Rectangle 5"/>
              <p:cNvSpPr/>
              <p:nvPr/>
            </p:nvSpPr>
            <p:spPr>
              <a:xfrm>
                <a:off x="7012080" y="3218040"/>
                <a:ext cx="758160" cy="8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 u="sng">
                    <a:solidFill>
                      <a:srgbClr val="cc9900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GB" sz="5100" spc="-1" strike="noStrike">
                    <a:solidFill>
                      <a:srgbClr val="30278a"/>
                    </a:solidFill>
                    <a:latin typeface="Arial"/>
                    <a:ea typeface="Arial"/>
                  </a:rPr>
                  <a:t> </a:t>
                </a:r>
                <a:r>
                  <a:rPr b="0" lang="en-GB" sz="1100" spc="-1" strike="noStrike">
                    <a:solidFill>
                      <a:srgbClr val="30278a"/>
                    </a:solidFill>
                    <a:latin typeface="Arial"/>
                    <a:ea typeface="Arial"/>
                  </a:rPr>
                  <a:t>                             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7"/>
              <p:cNvSpPr/>
              <p:nvPr/>
            </p:nvSpPr>
            <p:spPr>
              <a:xfrm>
                <a:off x="7012080" y="3218040"/>
                <a:ext cx="758160" cy="870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Rectangle 9"/>
            <p:cNvSpPr/>
            <p:nvPr/>
          </p:nvSpPr>
          <p:spPr>
            <a:xfrm>
              <a:off x="7010280" y="3200400"/>
              <a:ext cx="762120" cy="905040"/>
            </a:xfrm>
            <a:prstGeom prst="rect">
              <a:avLst/>
            </a:prstGeom>
            <a:noFill/>
            <a:ln w="34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0" name="Picture 11" descr="Cliquer pour en savoir plus !!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2133720"/>
            <a:ext cx="41529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Marius </a:t>
            </a: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(film)</a:t>
            </a: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     (</a:t>
            </a: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1931)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mier film de Pag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 début du cinéma par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"/>
          <p:cNvGrpSpPr/>
          <p:nvPr/>
        </p:nvGrpSpPr>
        <p:grpSpPr>
          <a:xfrm>
            <a:off x="6705720" y="2992320"/>
            <a:ext cx="1119240" cy="873360"/>
            <a:chOff x="6705720" y="2992320"/>
            <a:chExt cx="1119240" cy="873360"/>
          </a:xfrm>
        </p:grpSpPr>
        <p:grpSp>
          <p:nvGrpSpPr>
            <p:cNvPr id="164" name="Group 8"/>
            <p:cNvGrpSpPr/>
            <p:nvPr/>
          </p:nvGrpSpPr>
          <p:grpSpPr>
            <a:xfrm>
              <a:off x="6708600" y="3009960"/>
              <a:ext cx="1113480" cy="838080"/>
              <a:chOff x="6708600" y="3009960"/>
              <a:chExt cx="1113480" cy="838080"/>
            </a:xfrm>
          </p:grpSpPr>
          <p:sp>
            <p:nvSpPr>
              <p:cNvPr id="165" name="Rectangle 5"/>
              <p:cNvSpPr/>
              <p:nvPr/>
            </p:nvSpPr>
            <p:spPr>
              <a:xfrm>
                <a:off x="6708600" y="3009960"/>
                <a:ext cx="111348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2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 u="sng">
                    <a:solidFill>
                      <a:srgbClr val="cc9900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GB" sz="4900" spc="-1" strike="noStrike">
                    <a:solidFill>
                      <a:srgbClr val="30278a"/>
                    </a:solidFill>
                    <a:latin typeface="Arial"/>
                    <a:ea typeface="Arial"/>
                  </a:rPr>
                  <a:t> </a:t>
                </a:r>
                <a:r>
                  <a:rPr b="0" lang="en-GB" sz="1100" spc="-1" strike="noStrike">
                    <a:solidFill>
                      <a:srgbClr val="30278a"/>
                    </a:solidFill>
                    <a:latin typeface="Arial"/>
                    <a:ea typeface="Arial"/>
                  </a:rPr>
                  <a:t>                             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Rectangle 7"/>
              <p:cNvSpPr/>
              <p:nvPr/>
            </p:nvSpPr>
            <p:spPr>
              <a:xfrm>
                <a:off x="6708600" y="3009960"/>
                <a:ext cx="1113480" cy="838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Rectangle 9"/>
            <p:cNvSpPr/>
            <p:nvPr/>
          </p:nvSpPr>
          <p:spPr>
            <a:xfrm>
              <a:off x="6705720" y="2992320"/>
              <a:ext cx="1119240" cy="873360"/>
            </a:xfrm>
            <a:prstGeom prst="rect">
              <a:avLst/>
            </a:prstGeom>
            <a:noFill/>
            <a:ln w="34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8" name="Picture 11" descr="Cliquer pour en savoir plus !!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9040" y="2747880"/>
            <a:ext cx="37368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Marius – </a:t>
            </a: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la partie de carte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0" name="Picture 3" descr="intro2"/>
          <p:cNvPicPr/>
          <p:nvPr/>
        </p:nvPicPr>
        <p:blipFill>
          <a:blip r:embed="rId1"/>
          <a:stretch/>
        </p:blipFill>
        <p:spPr>
          <a:xfrm>
            <a:off x="2133720" y="1981080"/>
            <a:ext cx="66294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Fanny </a:t>
            </a: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(1932)   - pièce &gt; film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72" name="Group 15"/>
          <p:cNvGrpSpPr/>
          <p:nvPr/>
        </p:nvGrpSpPr>
        <p:grpSpPr>
          <a:xfrm>
            <a:off x="3809880" y="2819520"/>
            <a:ext cx="2057400" cy="1650960"/>
            <a:chOff x="3809880" y="2819520"/>
            <a:chExt cx="2057400" cy="1650960"/>
          </a:xfrm>
        </p:grpSpPr>
        <p:grpSp>
          <p:nvGrpSpPr>
            <p:cNvPr id="173" name="Group 13"/>
            <p:cNvGrpSpPr/>
            <p:nvPr/>
          </p:nvGrpSpPr>
          <p:grpSpPr>
            <a:xfrm>
              <a:off x="3815280" y="2836800"/>
              <a:ext cx="2046240" cy="1615680"/>
              <a:chOff x="3815280" y="2836800"/>
              <a:chExt cx="2046240" cy="1615680"/>
            </a:xfrm>
          </p:grpSpPr>
          <p:sp>
            <p:nvSpPr>
              <p:cNvPr id="174" name="Rectangle 10"/>
              <p:cNvSpPr/>
              <p:nvPr/>
            </p:nvSpPr>
            <p:spPr>
              <a:xfrm>
                <a:off x="3815280" y="2836800"/>
                <a:ext cx="2046240" cy="16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 u="sng">
                    <a:solidFill>
                      <a:srgbClr val="cc9900"/>
                    </a:solidFill>
                    <a:uFillTx/>
                    <a:latin typeface="Arial"/>
                    <a:hlinkClick r:id="rId1"/>
                  </a:rPr>
                  <a:t>  </a:t>
                </a:r>
                <a:r>
                  <a:rPr b="0" lang="en-GB" sz="10000" spc="-1" strike="noStrike">
                    <a:solidFill>
                      <a:srgbClr val="30278a"/>
                    </a:solidFill>
                    <a:latin typeface="Arial"/>
                  </a:rPr>
                  <a:t> </a:t>
                </a:r>
                <a:r>
                  <a:rPr b="0" lang="en-GB" sz="1100" spc="-1" strike="noStrike">
                    <a:solidFill>
                      <a:srgbClr val="30278a"/>
                    </a:solidFill>
                    <a:latin typeface="Arial"/>
                  </a:rPr>
                  <a:t>                             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12"/>
              <p:cNvSpPr/>
              <p:nvPr/>
            </p:nvSpPr>
            <p:spPr>
              <a:xfrm>
                <a:off x="3815280" y="2836800"/>
                <a:ext cx="2046240" cy="161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Rectangle 14"/>
            <p:cNvSpPr/>
            <p:nvPr/>
          </p:nvSpPr>
          <p:spPr>
            <a:xfrm>
              <a:off x="3809880" y="2819520"/>
              <a:ext cx="2057400" cy="1650960"/>
            </a:xfrm>
            <a:prstGeom prst="rect">
              <a:avLst/>
            </a:prstGeom>
            <a:noFill/>
            <a:ln w="34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" name="Picture 11" descr="Cliquer pour en savoir plus !!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2057400"/>
            <a:ext cx="3657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FILM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1934 - 1940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cel Pagnol réalise les films : "JOFROI", "ANGELE", "MERLUSSE", "CIGALON", "TOPAZE" (deuxième version), "REGAIN", "CESAR", "LE SCHPOUNTZ", "LA FEMME DU BOULANGER", "LA FILLE DU PUISATIER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6400800" y="2666880"/>
            <a:ext cx="1398600" cy="2666880"/>
            <a:chOff x="6400800" y="2666880"/>
            <a:chExt cx="1398600" cy="2666880"/>
          </a:xfrm>
        </p:grpSpPr>
        <p:grpSp>
          <p:nvGrpSpPr>
            <p:cNvPr id="181" name="Group 8"/>
            <p:cNvGrpSpPr/>
            <p:nvPr/>
          </p:nvGrpSpPr>
          <p:grpSpPr>
            <a:xfrm>
              <a:off x="6404400" y="2698200"/>
              <a:ext cx="1391040" cy="2604240"/>
              <a:chOff x="6404400" y="2698200"/>
              <a:chExt cx="1391040" cy="2604240"/>
            </a:xfrm>
          </p:grpSpPr>
          <p:sp>
            <p:nvSpPr>
              <p:cNvPr id="182" name="Rectangle 5"/>
              <p:cNvSpPr/>
              <p:nvPr/>
            </p:nvSpPr>
            <p:spPr>
              <a:xfrm>
                <a:off x="6404400" y="2698200"/>
                <a:ext cx="1391040" cy="260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 u="sng">
                    <a:solidFill>
                      <a:srgbClr val="cc9900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7"/>
              <p:cNvSpPr/>
              <p:nvPr/>
            </p:nvSpPr>
            <p:spPr>
              <a:xfrm>
                <a:off x="6404400" y="2698200"/>
                <a:ext cx="1391040" cy="2604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Rectangle 9"/>
            <p:cNvSpPr/>
            <p:nvPr/>
          </p:nvSpPr>
          <p:spPr>
            <a:xfrm>
              <a:off x="6400800" y="2666880"/>
              <a:ext cx="1398600" cy="2666880"/>
            </a:xfrm>
            <a:prstGeom prst="rect">
              <a:avLst/>
            </a:prstGeom>
            <a:noFill/>
            <a:ln w="34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Picture 11" descr="Cliquer pour en savoir plus !!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91160" y="1981080"/>
            <a:ext cx="329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Femme du boulanger  </a:t>
            </a: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(1938 )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1320840" y="2984400"/>
            <a:ext cx="6504120" cy="889200"/>
            <a:chOff x="1320840" y="2984400"/>
            <a:chExt cx="6504120" cy="889200"/>
          </a:xfrm>
        </p:grpSpPr>
        <p:grpSp>
          <p:nvGrpSpPr>
            <p:cNvPr id="188" name="Group 6"/>
            <p:cNvGrpSpPr/>
            <p:nvPr/>
          </p:nvGrpSpPr>
          <p:grpSpPr>
            <a:xfrm>
              <a:off x="1338480" y="3002040"/>
              <a:ext cx="6469200" cy="853920"/>
              <a:chOff x="1338480" y="3002040"/>
              <a:chExt cx="6469200" cy="853920"/>
            </a:xfrm>
          </p:grpSpPr>
          <p:sp>
            <p:nvSpPr>
              <p:cNvPr id="189" name="Rectangle 3"/>
              <p:cNvSpPr/>
              <p:nvPr/>
            </p:nvSpPr>
            <p:spPr>
              <a:xfrm>
                <a:off x="1338480" y="3002040"/>
                <a:ext cx="646920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 u="sng">
                    <a:solidFill>
                      <a:srgbClr val="cc9900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GB" sz="5000" spc="-1" strike="noStrike">
                    <a:solidFill>
                      <a:srgbClr val="30278a"/>
                    </a:solidFill>
                    <a:latin typeface="Arial"/>
                    <a:ea typeface="Arial"/>
                  </a:rPr>
                  <a:t> </a:t>
                </a:r>
                <a:r>
                  <a:rPr b="0" lang="en-GB" sz="1100" spc="-1" strike="noStrike">
                    <a:solidFill>
                      <a:srgbClr val="30278a"/>
                    </a:solidFill>
                    <a:latin typeface="Arial"/>
                    <a:ea typeface="Arial"/>
                  </a:rPr>
                  <a:t>                             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5"/>
              <p:cNvSpPr/>
              <p:nvPr/>
            </p:nvSpPr>
            <p:spPr>
              <a:xfrm>
                <a:off x="1338480" y="3002040"/>
                <a:ext cx="6469200" cy="853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7"/>
            <p:cNvSpPr/>
            <p:nvPr/>
          </p:nvSpPr>
          <p:spPr>
            <a:xfrm>
              <a:off x="1320840" y="2984400"/>
              <a:ext cx="6504120" cy="889200"/>
            </a:xfrm>
            <a:prstGeom prst="rect">
              <a:avLst/>
            </a:prstGeom>
            <a:noFill/>
            <a:ln w="34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2" name="Picture 4" descr="Cliquer pour en savoir plus !!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2057400"/>
            <a:ext cx="6629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Mariage</a:t>
            </a:r>
            <a:r>
              <a:rPr b="0" i="1" lang="en-GB" sz="3600" spc="-1" strike="noStrike">
                <a:solidFill>
                  <a:srgbClr val="996633"/>
                </a:solidFill>
                <a:latin typeface="Times New Roman"/>
              </a:rPr>
              <a:t>    1945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vec Jacqueline Bouv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i jouera Manon des sources (195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8"/>
          <p:cNvGrpSpPr/>
          <p:nvPr/>
        </p:nvGrpSpPr>
        <p:grpSpPr>
          <a:xfrm>
            <a:off x="623880" y="2903400"/>
            <a:ext cx="7897680" cy="1052640"/>
            <a:chOff x="623880" y="2903400"/>
            <a:chExt cx="7897680" cy="1052640"/>
          </a:xfrm>
        </p:grpSpPr>
        <p:sp>
          <p:nvSpPr>
            <p:cNvPr id="196" name="Rectangle 5"/>
            <p:cNvSpPr/>
            <p:nvPr/>
          </p:nvSpPr>
          <p:spPr>
            <a:xfrm>
              <a:off x="623880" y="2903400"/>
              <a:ext cx="7897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623880" y="2903400"/>
              <a:ext cx="7897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GB" sz="5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GB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Picture 9" descr="jacquel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9600" y="2089080"/>
            <a:ext cx="37368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990000"/>
                </a:solidFill>
                <a:latin typeface="Times New Roman"/>
              </a:rPr>
              <a:t>L’auteur – Marcel Pagno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62560" y="19810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895 - Naissance de Marcel Pagnol à Aubagne  (près de Marseil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Marcel"/>
          <p:cNvPicPr/>
          <p:nvPr/>
        </p:nvPicPr>
        <p:blipFill>
          <a:blip r:embed="rId1"/>
          <a:stretch/>
        </p:blipFill>
        <p:spPr>
          <a:xfrm>
            <a:off x="1690560" y="2268360"/>
            <a:ext cx="3278160" cy="32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’Académie Français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946 – devient membre de L’Académie franç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issance de son fils, Frédé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8"/>
          <p:cNvGrpSpPr/>
          <p:nvPr/>
        </p:nvGrpSpPr>
        <p:grpSpPr>
          <a:xfrm>
            <a:off x="623880" y="2408400"/>
            <a:ext cx="7897680" cy="2043000"/>
            <a:chOff x="623880" y="2408400"/>
            <a:chExt cx="7897680" cy="2043000"/>
          </a:xfrm>
        </p:grpSpPr>
        <p:sp>
          <p:nvSpPr>
            <p:cNvPr id="202" name="Rectangle 5"/>
            <p:cNvSpPr/>
            <p:nvPr/>
          </p:nvSpPr>
          <p:spPr>
            <a:xfrm>
              <a:off x="623880" y="2408400"/>
              <a:ext cx="7897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623880" y="2408400"/>
              <a:ext cx="7897680" cy="20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GB" sz="1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GB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4" name="Picture 9" descr="jacqueline_academ2"/>
          <p:cNvPicPr/>
          <p:nvPr/>
        </p:nvPicPr>
        <p:blipFill>
          <a:blip r:embed="rId1"/>
          <a:stretch/>
        </p:blipFill>
        <p:spPr>
          <a:xfrm>
            <a:off x="1479600" y="2398680"/>
            <a:ext cx="37368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996633"/>
                </a:solidFill>
                <a:latin typeface="Times New Roman"/>
              </a:rPr>
              <a:t>(1957)</a:t>
            </a: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  Souvenirs d’enfanc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La Gloire de mon pèr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Le Château de ma mè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5" descr="293 best of Le ch"/>
          <p:cNvPicPr/>
          <p:nvPr/>
        </p:nvPicPr>
        <p:blipFill>
          <a:blip r:embed="rId1"/>
          <a:stretch/>
        </p:blipFill>
        <p:spPr>
          <a:xfrm>
            <a:off x="2395440" y="2705040"/>
            <a:ext cx="1905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e Temps des secrets </a:t>
            </a: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(1960)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oisième volume d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ouven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030" descr="Souvenirs d'enfance, Tome 3 : Le Temps des secrets"/>
          <p:cNvPicPr/>
          <p:nvPr/>
        </p:nvPicPr>
        <p:blipFill>
          <a:blip r:embed="rId1"/>
          <a:stretch/>
        </p:blipFill>
        <p:spPr>
          <a:xfrm>
            <a:off x="1835280" y="2133720"/>
            <a:ext cx="2665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’Eau des Collines </a:t>
            </a: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(1963)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Jean de Flo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anon des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5" descr="Jean de Florette DVD: World Films"/>
          <p:cNvPicPr/>
          <p:nvPr/>
        </p:nvPicPr>
        <p:blipFill>
          <a:blip r:embed="rId1"/>
          <a:stretch/>
        </p:blipFill>
        <p:spPr>
          <a:xfrm>
            <a:off x="1739880" y="1981080"/>
            <a:ext cx="321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Mort de Marcel Pagnol</a:t>
            </a: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996633"/>
                </a:solidFill>
                <a:latin typeface="Times New Roman"/>
              </a:rPr>
              <a:t>(1974)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977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e Temps des am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trième volume 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ouvenirs d’enfa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pagnolcohen"/>
          <p:cNvPicPr/>
          <p:nvPr/>
        </p:nvPicPr>
        <p:blipFill>
          <a:blip r:embed="rId1"/>
          <a:stretch/>
        </p:blipFill>
        <p:spPr>
          <a:xfrm>
            <a:off x="1835280" y="2349360"/>
            <a:ext cx="35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Les Talents de Marcel Pagno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79600" y="1981080"/>
            <a:ext cx="3736800" cy="41148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iné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manc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ramatu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énari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stori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duc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sayis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è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8"/>
          <p:cNvGrpSpPr/>
          <p:nvPr/>
        </p:nvGrpSpPr>
        <p:grpSpPr>
          <a:xfrm>
            <a:off x="857160" y="1546200"/>
            <a:ext cx="7429680" cy="3765600"/>
            <a:chOff x="857160" y="1546200"/>
            <a:chExt cx="7429680" cy="3765600"/>
          </a:xfrm>
        </p:grpSpPr>
        <p:sp>
          <p:nvSpPr>
            <p:cNvPr id="221" name="Rectangle 5"/>
            <p:cNvSpPr/>
            <p:nvPr/>
          </p:nvSpPr>
          <p:spPr>
            <a:xfrm>
              <a:off x="857160" y="1546200"/>
              <a:ext cx="742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857160" y="1546200"/>
              <a:ext cx="7429680" cy="37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GB" sz="23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GB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3" name="Picture 7" descr="pagnol2e"/>
          <p:cNvPicPr/>
          <p:nvPr/>
        </p:nvPicPr>
        <p:blipFill>
          <a:blip r:embed="rId2"/>
          <a:stretch/>
        </p:blipFill>
        <p:spPr>
          <a:xfrm>
            <a:off x="1752480" y="205740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990000"/>
                </a:solidFill>
                <a:latin typeface="Times New Roman"/>
              </a:rPr>
              <a:t>Jean de Florette</a:t>
            </a:r>
            <a:br>
              <a:rPr sz="4800"/>
            </a:br>
            <a:r>
              <a:rPr b="1" lang="en-GB" sz="3600" spc="-1" strike="noStrike">
                <a:solidFill>
                  <a:srgbClr val="990000"/>
                </a:solidFill>
                <a:latin typeface="Times New Roman"/>
              </a:rPr>
              <a:t>L’intrigue  - au début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ésar Soubeyran et son neveu, Ugo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 quête d’une source d’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rentabilité de la cultivation d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œ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mort de leur voisin (Marius / Pique-Bouffi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 nouveau propriétaire - Jean Cado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1986_Jean_de_Florette"/>
          <p:cNvPicPr/>
          <p:nvPr/>
        </p:nvPicPr>
        <p:blipFill>
          <a:blip r:embed="rId1"/>
          <a:stretch/>
        </p:blipFill>
        <p:spPr>
          <a:xfrm>
            <a:off x="3352680" y="4191120"/>
            <a:ext cx="18288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990000"/>
                </a:solidFill>
                <a:latin typeface="Times New Roman"/>
              </a:rPr>
              <a:t>Les Personnages</a:t>
            </a: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23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s personnages-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nouveux propriétaires - La famille Cado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an de Florette / Jean Cado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femme, Aim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petite fille, Ma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68360" y="4005360"/>
            <a:ext cx="7920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ysan prov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golin de Zulma / Soubey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Jean Cadoret (Jean de Florette)</a:t>
            </a:r>
            <a:br>
              <a:rPr sz="4400"/>
            </a:br>
            <a:r>
              <a:rPr b="0" lang="en-GB" sz="2000" spc="-1" strike="noStrike">
                <a:solidFill>
                  <a:srgbClr val="996633"/>
                </a:solidFill>
                <a:latin typeface="Times New Roman"/>
              </a:rPr>
              <a:t>joué par Gérard Depardieu</a:t>
            </a:r>
            <a:endParaRPr b="0" i="1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1" name="Picture 4" descr="jean2"/>
          <p:cNvPicPr/>
          <p:nvPr/>
        </p:nvPicPr>
        <p:blipFill>
          <a:blip r:embed="rId1"/>
          <a:stretch/>
        </p:blipFill>
        <p:spPr>
          <a:xfrm>
            <a:off x="3240000" y="2338560"/>
            <a:ext cx="410544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Ugolin </a:t>
            </a:r>
            <a:br>
              <a:rPr sz="4400"/>
            </a:br>
            <a:r>
              <a:rPr b="0" i="1" lang="en-GB" sz="2000" spc="-1" strike="noStrike">
                <a:solidFill>
                  <a:srgbClr val="996633"/>
                </a:solidFill>
                <a:latin typeface="Times New Roman"/>
              </a:rPr>
              <a:t>joué par Daniel Auteuil</a:t>
            </a:r>
            <a:endParaRPr b="0" i="1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3" name="Picture 4" descr="ugolin1"/>
          <p:cNvPicPr/>
          <p:nvPr/>
        </p:nvPicPr>
        <p:blipFill>
          <a:blip r:embed="rId1"/>
          <a:stretch/>
        </p:blipFill>
        <p:spPr>
          <a:xfrm>
            <a:off x="4221000" y="2809800"/>
            <a:ext cx="21434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Famille Pagno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 père de Marcel,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seph Pagnol -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‘mon cher surhomme’</a:t>
            </a:r>
            <a:br>
              <a:rPr sz="2800"/>
            </a:b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a Gloire de mon pè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p. 217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joseph"/>
          <p:cNvPicPr/>
          <p:nvPr/>
        </p:nvPicPr>
        <p:blipFill>
          <a:blip r:embed="rId1"/>
          <a:stretch/>
        </p:blipFill>
        <p:spPr>
          <a:xfrm>
            <a:off x="1995480" y="1981080"/>
            <a:ext cx="2705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Papet (César Soubeyran)</a:t>
            </a:r>
            <a:br>
              <a:rPr sz="4400"/>
            </a:br>
            <a:r>
              <a:rPr b="0" i="1" lang="en-GB" sz="2000" spc="-1" strike="noStrike">
                <a:solidFill>
                  <a:srgbClr val="996633"/>
                </a:solidFill>
                <a:latin typeface="Times New Roman"/>
              </a:rPr>
              <a:t>joué par Yves Montand</a:t>
            </a:r>
            <a:endParaRPr b="0" i="1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5" name="Picture 4" descr="cesar1"/>
          <p:cNvPicPr/>
          <p:nvPr/>
        </p:nvPicPr>
        <p:blipFill>
          <a:blip r:embed="rId1"/>
          <a:stretch/>
        </p:blipFill>
        <p:spPr>
          <a:xfrm>
            <a:off x="3997440" y="2700360"/>
            <a:ext cx="2590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Manon, fille de Jean et Aimé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7" name="Picture 4" descr="manon1"/>
          <p:cNvPicPr/>
          <p:nvPr/>
        </p:nvPicPr>
        <p:blipFill>
          <a:blip r:embed="rId1"/>
          <a:stretch/>
        </p:blipFill>
        <p:spPr>
          <a:xfrm>
            <a:off x="4230720" y="2714760"/>
            <a:ext cx="21240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990000"/>
                </a:solidFill>
                <a:latin typeface="Times New Roman"/>
              </a:rPr>
              <a:t>La technique cinématographiqu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région de Provence - Le paysage, les acteurs, les noms, les accents (échantillon du DVD - débu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représentation des personnages - Jean, Ugo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s rapports entre les personnages - Jean et Aimée, Jean et Man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s techniques employées - La musique, la                          ré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FI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41" name="Picture 3" descr="37"/>
          <p:cNvPicPr/>
          <p:nvPr/>
        </p:nvPicPr>
        <p:blipFill>
          <a:blip r:embed="rId1"/>
          <a:stretch/>
        </p:blipFill>
        <p:spPr>
          <a:xfrm>
            <a:off x="4140360" y="2349360"/>
            <a:ext cx="25398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6633"/>
                </a:solidFill>
                <a:latin typeface="Times New Roman"/>
              </a:rPr>
              <a:t>Useful website addresses</a:t>
            </a:r>
            <a:br>
              <a:rPr sz="4000"/>
            </a:b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ac-strasbourg.fr/pedago/lettres/lecture/Pagnolbio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biographie de Pagn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grignoux.be/dossiers/105/#text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dossier pédagog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web-provence.com/balades/manon-pratiqu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carte de la Prov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carte-france.info/ville-13400-aubagn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carte d’Aubag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fr.wikipedia.org/wiki/Marcel_Pagn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proverbes-citations.com/pagnol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6633"/>
                </a:solidFill>
                <a:latin typeface="Times New Roman"/>
              </a:rPr>
              <a:t>Augustine, mère de Marcel Pagnol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augustine"/>
          <p:cNvPicPr/>
          <p:nvPr/>
        </p:nvPicPr>
        <p:blipFill>
          <a:blip r:embed="rId1"/>
          <a:stretch/>
        </p:blipFill>
        <p:spPr>
          <a:xfrm>
            <a:off x="3492360" y="2781360"/>
            <a:ext cx="2227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Famille Pagno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 mère de Marcel – Augus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te en 19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1989000" y="1981080"/>
          <a:ext cx="2716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9000" y="1981080"/>
                    <a:ext cx="271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Naissance de son frère, Paul</a:t>
            </a:r>
            <a:br>
              <a:rPr sz="4400"/>
            </a:b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et de sa soeur, Germain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l en 1898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uis Germaine en 19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1479600" y="3087720"/>
          <a:ext cx="3736800" cy="19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3087720"/>
                    <a:ext cx="3736800" cy="19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Paul et Germaine Pagno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ère et soeur de Marcel Pag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paulgermaine"/>
          <p:cNvPicPr/>
          <p:nvPr/>
        </p:nvPicPr>
        <p:blipFill>
          <a:blip r:embed="rId1"/>
          <a:stretch/>
        </p:blipFill>
        <p:spPr>
          <a:xfrm>
            <a:off x="3203640" y="2637000"/>
            <a:ext cx="324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La Natur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rcel et la nature sauvage – la montagne – le Garlaban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film1.jpg (9004 octets)"/>
          <p:cNvPicPr/>
          <p:nvPr/>
        </p:nvPicPr>
        <p:blipFill>
          <a:blip r:embed="rId1"/>
          <a:stretch/>
        </p:blipFill>
        <p:spPr>
          <a:xfrm>
            <a:off x="1479600" y="2946240"/>
            <a:ext cx="37368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996633"/>
                </a:solidFill>
                <a:latin typeface="Times New Roman"/>
              </a:rPr>
              <a:t>Autobiographi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Le Château de ma mè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Souvenirs d’enfa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86"/>
          <p:cNvPicPr/>
          <p:nvPr/>
        </p:nvPicPr>
        <p:blipFill>
          <a:blip r:embed="rId1"/>
          <a:stretch/>
        </p:blipFill>
        <p:spPr>
          <a:xfrm>
            <a:off x="2044800" y="1981080"/>
            <a:ext cx="260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6:01:52Z</dcterms:created>
  <dc:creator>Admin</dc:creator>
  <dc:description/>
  <dc:language>en-US</dc:language>
  <cp:lastModifiedBy>Louisa Gibson</cp:lastModifiedBy>
  <cp:lastPrinted>2017-03-08T10:50:08Z</cp:lastPrinted>
  <dcterms:modified xsi:type="dcterms:W3CDTF">2017-03-08T10:50:10Z</dcterms:modified>
  <cp:revision>47</cp:revision>
  <dc:subject/>
  <dc:title>Jean de Florette</dc:title>
</cp:coreProperties>
</file>